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E60E-BE70-453D-85B2-64DE0E8C29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лечились наши пред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Федотова Елиза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3 «В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й школы № 6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1F75-6587-4D3C-91D4-55D96DEB1A6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здра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ыня, Макошь матушка, м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ая, Богородица. Ты мать Рожаниц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арога сестрица! Даруй нам удачу, б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тей и плачу! Дай здравия чадам вели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малым. Ныне и присно и от к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круга! Тако бысть, тако еси, тако буд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2A28-0720-4D32-879F-0C20BFC7D3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 на счас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й ты, Лада матушка, матерь С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чистая! Не остави нас без люб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астия! Благодать свою ниспошли на н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ко и мы чтим и славим тебя . Нын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но и от круга до круга! Тако бысть, та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и, тако буди! До скончания времен, п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ит нам Ярило солн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B3D1-27C5-4458-8BD9-CE089ADB3B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в доме не находится вещь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ите угощение домовому и говор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мовой, домовой, поиграл и отда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сле трёх раз не нашли, значи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е этой вещ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95DE-F692-41FB-BBEA-8D40396E62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лекарь, умевший в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нутые кости или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ить переломленные, называл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топра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21C7-EBF1-4F6F-ACFA-F766CC2B66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только вениками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арились в старин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39EC-2139-4599-8F14-279C233EAE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 уважал знахарей, потому что от них зависело здоровь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1739-0337-448B-9908-4F0890BBCC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!!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1A9D-DCBE-4506-9499-3880B426EC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E040-8F07-478D-A940-38F378B40AA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одыряв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обой применялся нару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работки нарывов и яз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D9D5-A14D-4774-92B5-83846D059D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мотря на свою жгучесть, крап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ла и сейчас привлекает к себе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 и широко использовалась к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арственное и пищевое растение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у применяли от болей в суставах, п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и предки с успехом применяли и се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ы. В частности, толчеными семенами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ном изгоняли камни почек, семена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шанными с медом и вином, устраня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тарелый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09C1-E850-4660-B636-296C72B28B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оспалении суставов капу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использовалас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как лечеб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 нару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6AFE-0145-4CC9-8EB9-04629CD960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шковый настой ча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ли для 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вылечить каш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этот настой бы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воспал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FBB8-F8DB-4C85-B1D7-CDC346F834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2CE8-B83A-44FA-806D-3C08BA7EF5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E255-8704-4322-8521-BBB157136D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оворы и риту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07CB-7770-41F4-874F-07B7B9F1B6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0052-0780-4CA4-9483-5ECCFF8C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F3E-FC5E-498C-97EA-5A6D5AF1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010-EDD8-4591-8422-65550CFC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200-8B84-49CD-BB32-1CDAD531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2EB-34D1-46FB-8B5F-74D2E90A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FB9-280D-438E-92FE-5F917DB3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78A-6A68-4DEA-96E7-E8657706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DB7-5DD9-450A-806C-D71C495D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350-9D62-4C41-8F13-5B9DD51A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B242-5E15-4362-970E-90DFC2A0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A83-3DBB-43D0-9DF4-CF9ADBB0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A45-3C2D-4383-B0CE-EBCD33C0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F52A-B992-4C96-9D11-681E07E3F7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к лечились наши предк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79280" y="2852280"/>
            <a:ext cx="5514840" cy="6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 Федотова Елизав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3 «В»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ней школы № 64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zverobojj"/>
          <p:cNvPicPr/>
          <p:nvPr/>
        </p:nvPicPr>
        <p:blipFill>
          <a:blip r:embed="rId1"/>
          <a:stretch/>
        </p:blipFill>
        <p:spPr>
          <a:xfrm rot="370200">
            <a:off x="2842920" y="4797360"/>
            <a:ext cx="673200" cy="1022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 rot="579600">
            <a:off x="3924360" y="4797360"/>
            <a:ext cx="6080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kapusta"/>
          <p:cNvPicPr/>
          <p:nvPr/>
        </p:nvPicPr>
        <p:blipFill>
          <a:blip r:embed="rId3"/>
          <a:stretch/>
        </p:blipFill>
        <p:spPr>
          <a:xfrm rot="21078600">
            <a:off x="5003280" y="4869000"/>
            <a:ext cx="68580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 rot="20909400">
            <a:off x="6156000" y="4941360"/>
            <a:ext cx="1117440" cy="920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78263a03f79"/>
          <p:cNvPicPr/>
          <p:nvPr/>
        </p:nvPicPr>
        <p:blipFill>
          <a:blip r:embed="rId5"/>
          <a:stretch/>
        </p:blipFill>
        <p:spPr>
          <a:xfrm rot="775800">
            <a:off x="1042560" y="4652640"/>
            <a:ext cx="1317600" cy="96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800px-Sambucus_nigra_fruit_kpjas_26082005_1"/>
          <p:cNvPicPr/>
          <p:nvPr/>
        </p:nvPicPr>
        <p:blipFill>
          <a:blip r:embed="rId6"/>
          <a:stretch/>
        </p:blipFill>
        <p:spPr>
          <a:xfrm rot="21050400">
            <a:off x="7524720" y="4653000"/>
            <a:ext cx="1433520" cy="1074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здрави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ыня, Макошь матушка, м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бесная, Богородица. Ты мать Рожан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арога сестрица! Даруй нам удачу, б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ей и плачу! Дай здравия чадам велик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малым. Ныне и присно и от к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 круга! Тако бысть, тако еси, тако буди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 на счастье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й ты, Лада матушка, матерь С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чистая! Не остави нас без любви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частия! Благодать свою ниспошли на нас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ко и мы чтим и славим тебя . Ныне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но и от круга до круга! Тако бысть, так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и, тако буди! До скончания времен, п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тит нам Ярило солн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Если в доме не находится вещь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вите угощение домовому и говори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омовой, домовой, поиграл и отдай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после трёх раз не нашли, значит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е этой вещи н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остоправ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лекарь, умевший вправля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ихнутые кости или правиль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ить переломленные, называл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топрав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ани и банные процедур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ни и банные процедуры пользовались большой популярностью у всех жителей Руси от мала до велика. Они помогали поддерживать здоровье, соблюдать гигиену. В старину говорили: «Коли бы не бани, то все бы пропал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ми только вениками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арились в старин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701307_w640_h640_venik1"/>
          <p:cNvPicPr/>
          <p:nvPr/>
        </p:nvPicPr>
        <p:blipFill>
          <a:blip r:embed="rId1"/>
          <a:stretch/>
        </p:blipFill>
        <p:spPr>
          <a:xfrm>
            <a:off x="826920" y="4581360"/>
            <a:ext cx="1441440" cy="9828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нахари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од уважал знахарей, потому что от них зависело здоровье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ы приготовления лекарств знахари передавали только своим детям или ученикам, стремившимся к знаниям о приро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врачи и учёные пытаются восстановить накопленные нашими предками знания о лечебных свойствах растений, которые были утеря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604360" y="-5230080"/>
            <a:ext cx="71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0080" y="2071440"/>
            <a:ext cx="745812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ОНЕЦ!!!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тарину медицины не было, поэтому наши изобретательные предки для лечения заболеваний использова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ичные растения, ягоды, мёд, кору и листья деревьев, отвары и настои из лекарственных трав. Людей, знавших лекарственные растения и умевших изготовлять из них лекарства, называли знахаря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веробой продырявленный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7120" y="3309480"/>
            <a:ext cx="603432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веробой применялся наруж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обработки нарывов и яз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7" descr="zverobojj"/>
          <p:cNvPicPr/>
          <p:nvPr/>
        </p:nvPicPr>
        <p:blipFill>
          <a:blip r:embed="rId1"/>
          <a:stretch/>
        </p:blipFill>
        <p:spPr>
          <a:xfrm rot="1050600">
            <a:off x="5867280" y="2708280"/>
            <a:ext cx="2303640" cy="35002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рапив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5320" y="2055960"/>
            <a:ext cx="6350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мотря на свою жгучесть, крап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лекала и сейчас привлекает к себе вним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ловека и широко использовалась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карственное и пищевое растение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у применяли от болей в суставах, пр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елтухе, собачьих укусах, как мочегонное.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и предки с успехом применяли и се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пивы. В частности, толчеными семенами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ном изгоняли камни почек, семена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ешанными с медом и вином, устраня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тарелый каше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7068960" y="2492280"/>
            <a:ext cx="2075040" cy="36892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апус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оспалении суставов кап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ироко использовалась 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ется как лечебн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ство наруж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kapusta"/>
          <p:cNvPicPr/>
          <p:nvPr/>
        </p:nvPicPr>
        <p:blipFill>
          <a:blip r:embed="rId1"/>
          <a:stretch/>
        </p:blipFill>
        <p:spPr>
          <a:xfrm>
            <a:off x="6645240" y="2133720"/>
            <a:ext cx="2498760" cy="367164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Ромашк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495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машковый настой част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ли для тог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вылечить каш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этот настой бы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ивовоспалите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191280" y="3213000"/>
            <a:ext cx="2952720" cy="2432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Лип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цветков липы готовили лечебный чай. Липовый цвет - один из старейших народных лекарственных препаратов, зарекомендовавший себя как потогонное, жаропонижающее, отхаркивающее, мочегонное, бактерицидное средств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878263a03f79"/>
          <p:cNvPicPr/>
          <p:nvPr/>
        </p:nvPicPr>
        <p:blipFill>
          <a:blip r:embed="rId1"/>
          <a:stretch/>
        </p:blipFill>
        <p:spPr>
          <a:xfrm>
            <a:off x="3851280" y="4843440"/>
            <a:ext cx="2757600" cy="20145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узина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зина черная исстари считалась священным деревом, ягоды которого будто бы способствовали продлению жизни. В народной медицине отвар, приготовленный из цветков и плодов черной бузины, применяли как жаропонижающее, потогонное, мочегонное, глистогонное и рвотное средство, а настой цветов - при заболеваниях дыхательных путей. Кора бузины обладает сильным мочегонным действием, ее применяли также при неврастении, пневмонии, бронхите, головной и зубной бо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800px-Sambucus_nigra_fruit_kpjas_26082005_1"/>
          <p:cNvPicPr/>
          <p:nvPr/>
        </p:nvPicPr>
        <p:blipFill>
          <a:blip r:embed="rId1"/>
          <a:stretch/>
        </p:blipFill>
        <p:spPr>
          <a:xfrm>
            <a:off x="3059280" y="5506920"/>
            <a:ext cx="1800000" cy="13510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Заговоры и ритуалы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хари при лечении людей пользовались заговорами и ритуалами. Они понимали, что словом можно и убить, и исцелить. Хорошее слово лечит, а бранное разрушает. Главное условие для достижения положительного результата – это искреннее отношение и яркий образ при использовании заговора. Были заговоры на здравие, на доброе потомство, на счастье, на любовь, на оберег дома, от порчи, от бессонницы, от болезней 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6:00:56Z</dcterms:created>
  <dc:creator>Елена</dc:creator>
  <dc:description/>
  <dc:language>en-US</dc:language>
  <cp:lastModifiedBy>LEGION</cp:lastModifiedBy>
  <dcterms:modified xsi:type="dcterms:W3CDTF">2014-11-24T10:58:35Z</dcterms:modified>
  <cp:revision>7</cp:revision>
  <dc:subject/>
  <dc:title>Как лечились наши предки.</dc:title>
</cp:coreProperties>
</file>